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7.jpeg" ContentType="image/jpeg"/>
  <Override PartName="/ppt/media/image2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5F9-24EB-4B0F-B1FA-81735027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DBF-612E-4393-A25E-E3B76245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AAA-E4B0-4D9B-B18C-0E47F04B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FA4E-E20C-488C-93BD-C1DC0F5D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0D80-468A-4D11-A94A-44971D5F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126E-34D1-4A49-9E29-772224E1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08D5-7ED3-44D7-A632-82299828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B12F-8BF5-4524-9F8D-843BBADE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954E-2E68-4BC3-B583-51E7EC90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007B-FBED-4FD8-B935-4379AF62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3947-FE0D-4A82-A3A7-765BD085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763-7730-4FAA-B8D5-08F18D5D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203A-B0D0-4444-A6E0-6C4A3AF1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C4F4-37F2-49DF-B31C-9C219E62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C3A8-D644-4A1B-AB47-D35ECFE4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54BD-14D2-419F-8AB1-3E398010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82E3-A9B2-4C0E-9736-CBEAB20B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8521E-FF0E-4EEA-9463-36204973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22892-CC74-422A-BE52-ADDCA88B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17F96-5F89-44B0-A2C0-B2187EC3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98F31-B0D0-4D66-BBC9-C234724D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3E1FF-DD3F-48A8-AA0E-71DC1BBB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FB0-05B9-4CDD-8C06-BD865621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33154-D2CF-429C-BB7E-75AFB434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D8B7F-3333-4D63-A1A1-4D97FA41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FEE77-9070-4A87-95B2-23253E6E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9CE3-298E-42E9-A3A8-3731AFE8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6126F-EC98-4B9A-898E-95E9C708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750EB-68E5-4E96-8D2F-DC382CD6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DB2F9-067E-4CED-A956-57B8DCA8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F347E-A06A-4B75-A4B7-A1E33EF0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C7863-C5D5-4A61-811E-39DBCA23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1E6EB-CF17-4FB1-8EBB-EB2AB8B6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1C5-22A1-4FFD-AFB0-6974B15A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64EC6-D57A-4664-9640-67CCE05A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A7D0F-B7E0-4AF0-A2CE-05B890EF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910B3-9B00-4441-8511-5AA52230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4A6CA-7152-48A1-BFEC-A3D6A101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197D9-4C70-4989-AAEF-DA9A1B7E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3AD56-2498-4936-AD42-3849F809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7FBF3-F1FD-4B07-B0DE-CCE58DDC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8AA32-6B6B-484C-8B8E-05293087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63BEB-8FC5-4E95-910D-54A389F8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81C-D5AB-48D6-B1CB-3FA4F752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8DD-372E-4448-9F04-8E3E93D5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575-1AAE-4E86-A4E6-CFADFE8F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EC7-4E2F-4650-A222-ED5C2287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29D-89B3-44B5-A3F0-D0331B77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ABCB-8047-4259-A2F6-E6C8ADEC64D7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DA65-A6C9-44C7-A1F6-73C771E6BC43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F8BA-A74D-4BB1-BD77-E033060B1FE7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DFDE-E5B0-4E10-8EBE-5258646F3F52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7560" cy="1951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68000" y="242100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nstantia"/>
              </a:rPr>
              <a:t>Course Overview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http://4.bp.blogspot.com/_GeQ1BRP5vYw/SSKUVIJrPwI/AAAAAAAAABs/qePEOm-5-B8/S1600-R/Media+Studies+Banner.jpg"/>
          <p:cNvPicPr/>
          <p:nvPr/>
        </p:nvPicPr>
        <p:blipFill>
          <a:blip r:embed="rId2"/>
          <a:stretch/>
        </p:blipFill>
        <p:spPr>
          <a:xfrm>
            <a:off x="5435640" y="4365720"/>
            <a:ext cx="3313080" cy="2081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http://gallery.hd.org/_exhibits/bizarre/pseudoscience-homeopathy-and-mobile-phones-local-newspaper-front-page-story-1bit-mono-1-DHD.gif"/>
          <p:cNvPicPr/>
          <p:nvPr/>
        </p:nvPicPr>
        <p:blipFill>
          <a:blip r:embed="rId3"/>
          <a:stretch/>
        </p:blipFill>
        <p:spPr>
          <a:xfrm>
            <a:off x="0" y="0"/>
            <a:ext cx="2200320" cy="2997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http://novi.lib.mi.us/includes/FilmReel.jpg"/>
          <p:cNvPicPr/>
          <p:nvPr/>
        </p:nvPicPr>
        <p:blipFill>
          <a:blip r:embed="rId4"/>
          <a:stretch/>
        </p:blipFill>
        <p:spPr>
          <a:xfrm>
            <a:off x="0" y="299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http://www.bbc.co.uk/blogs/jeffzycinski/2008/02/images/dabradio.jpg"/>
          <p:cNvPicPr/>
          <p:nvPr/>
        </p:nvPicPr>
        <p:blipFill>
          <a:blip r:embed="rId5"/>
          <a:stretch/>
        </p:blipFill>
        <p:spPr>
          <a:xfrm>
            <a:off x="0" y="5229360"/>
            <a:ext cx="1763640" cy="1628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http://www.bristol.indymedia.org/attachments/sep2008/rwm.jpg"/>
          <p:cNvPicPr/>
          <p:nvPr/>
        </p:nvPicPr>
        <p:blipFill>
          <a:blip r:embed="rId6"/>
          <a:stretch/>
        </p:blipFill>
        <p:spPr>
          <a:xfrm>
            <a:off x="2195640" y="0"/>
            <a:ext cx="1562040" cy="183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http://i.models.com/rankings/money/i/filippamg.jpg"/>
          <p:cNvPicPr/>
          <p:nvPr/>
        </p:nvPicPr>
        <p:blipFill>
          <a:blip r:embed="rId7"/>
          <a:stretch/>
        </p:blipFill>
        <p:spPr>
          <a:xfrm>
            <a:off x="2195640" y="1844640"/>
            <a:ext cx="2496960" cy="3384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http://www.canterbury.ac.uk/courses/images/course-images/digital-media400x297.jpg"/>
          <p:cNvPicPr/>
          <p:nvPr/>
        </p:nvPicPr>
        <p:blipFill>
          <a:blip r:embed="rId8"/>
          <a:stretch/>
        </p:blipFill>
        <p:spPr>
          <a:xfrm>
            <a:off x="1763640" y="5146560"/>
            <a:ext cx="25639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3 - EX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nstantia"/>
              </a:rPr>
              <a:t>Section A – 1 hour and 15 min viewing/reading ti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3 compulsory ques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Unseen stimulus materials – print, e-media, audio or moving im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Note taking and planning essenti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edia issues and deb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4832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nstantia"/>
              </a:rPr>
              <a:t>Section B – 1 hou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ne compulsory question from a choice of fou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Questions linked to pre-set top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ndidates must use examples from texts they have studi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755640" y="1557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wo hour paper, marked out of 80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Worth 25% of A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http://www.theblackandwhite.net/wp-content/uploads/2010/06/exam.gif"/>
          <p:cNvPicPr/>
          <p:nvPr/>
        </p:nvPicPr>
        <p:blipFill>
          <a:blip r:embed="rId1"/>
          <a:stretch/>
        </p:blipFill>
        <p:spPr>
          <a:xfrm>
            <a:off x="7799400" y="0"/>
            <a:ext cx="13446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UNIT 4 – Research and Produ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ritical investigation (48 mark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Linked production piece (32 mark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unit is intended to enable candidates to explore a text, theme, issue or debate relevant to contemporary media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ternally assessed and externally modera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orth 25% of A leve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ritical Investig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esented as a written report of 2000 wor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ust have a clearly focused tit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hould be textually foc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You will need to collect and evaluate eviden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inked prod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ust show development from 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hould demonstrate confident use of chosen technology and key concepts/media conven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hould follow directly from investigation pie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2" descr="camera.jpg image by LightHouseMedia"/>
          <p:cNvPicPr/>
          <p:nvPr/>
        </p:nvPicPr>
        <p:blipFill>
          <a:blip r:embed="rId1"/>
          <a:stretch/>
        </p:blipFill>
        <p:spPr>
          <a:xfrm>
            <a:off x="6588000" y="907920"/>
            <a:ext cx="201636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Constantia"/>
              </a:rPr>
              <a:t>Critical investig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Gender representation in soap oper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iral marketing techniq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temporary men’s lifestyle magaz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Constantia"/>
              </a:rPr>
              <a:t>Linked pro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opening sequence for an episode of a new soap ope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 viral advertisement suitable for distribution by mobile pho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ock up of the first edition of a new men’s lifestyle magaz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Learning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 examine the role of the media in today’s socie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 look at social, economic, political and historical contex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 understand media theo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 link media research and practical production relevant to the contemporary media landscap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http://www.ism.stir.ac.uk/images/Media.JPG"/>
          <p:cNvPicPr/>
          <p:nvPr/>
        </p:nvPicPr>
        <p:blipFill>
          <a:blip r:embed="rId1"/>
          <a:stretch/>
        </p:blipFill>
        <p:spPr>
          <a:xfrm>
            <a:off x="6875640" y="836640"/>
            <a:ext cx="20174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3 – Critical Persp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wo pre-set topic areas for study throughout the ye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1) Representations in the 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2) The impact of new/digital 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ach candidate MUST produce an individual case study of their own choice for each pre set topi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http://www.outregallery.com/images/products/headlines.jpg"/>
          <p:cNvPicPr/>
          <p:nvPr/>
        </p:nvPicPr>
        <p:blipFill>
          <a:blip r:embed="rId1"/>
          <a:stretch/>
        </p:blipFill>
        <p:spPr>
          <a:xfrm>
            <a:off x="7737480" y="4948200"/>
            <a:ext cx="140652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3 - Repres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 class, we will study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mages of ...... across a range of med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tereotyp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epresentation and gen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Wider contex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ross-cultural fa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effect of globalisation on represent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Values and ideolog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http://www.cartoonstock.com/lowres/rjo0987l.jpg"/>
          <p:cNvPicPr/>
          <p:nvPr/>
        </p:nvPicPr>
        <p:blipFill>
          <a:blip r:embed="rId1"/>
          <a:stretch/>
        </p:blipFill>
        <p:spPr>
          <a:xfrm>
            <a:off x="5724360" y="1916280"/>
            <a:ext cx="3200400" cy="2592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http://www.businesspundit.com/wp-content/uploads/2009/06/zzaudience.gif"/>
          <p:cNvPicPr/>
          <p:nvPr/>
        </p:nvPicPr>
        <p:blipFill>
          <a:blip r:embed="rId2"/>
          <a:stretch/>
        </p:blipFill>
        <p:spPr>
          <a:xfrm>
            <a:off x="7020000" y="5445000"/>
            <a:ext cx="19080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3 - Repres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You will be expected to complete your own research into a case stud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revious examples includ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epresentation of refugees in British newspap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epresentation of Los Angeles in Hollywood fil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epresentation of teenagers in British soap operas and fil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epresentation of celebrities in newspapers and magazi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3 - Repres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xample Case Study – refugees in British newspap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esearch into and documentation of the treatment of refugees in a variety of newspapers (or just one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udy of the political and social reasons for the construction of such represent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possible effects on the audience of the newspape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xamination of this representation across other media platfor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lways ask WHY? Why do these representations exis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http://deathby1000papercuts.com/wp-content/uploads/2009/08/illegal-immigrant-sign.jpg"/>
          <p:cNvPicPr/>
          <p:nvPr/>
        </p:nvPicPr>
        <p:blipFill>
          <a:blip r:embed="rId1"/>
          <a:stretch/>
        </p:blipFill>
        <p:spPr>
          <a:xfrm>
            <a:off x="7308720" y="260280"/>
            <a:ext cx="139392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3 – New/Digital Med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 class we will study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interactive consu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cial networ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Blogs/podcasts/intern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role of media institu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media and democr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changing role of the distributor and exhibi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ew technologies and audi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http://www.cartforge.com/images/stock/social-networking-logos3.jpg"/>
          <p:cNvPicPr/>
          <p:nvPr/>
        </p:nvPicPr>
        <p:blipFill>
          <a:blip r:embed="rId1"/>
          <a:stretch/>
        </p:blipFill>
        <p:spPr>
          <a:xfrm>
            <a:off x="5508720" y="2349360"/>
            <a:ext cx="276048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3 – New/Digital Med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You will be expected to complete your own research into a case stud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revious examples inclu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impact of mobile ph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impact of social networking sites such as MySp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ase study of Wikip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http://www.ifc.com/makemediamatter/wikipedia-logo.png"/>
          <p:cNvPicPr/>
          <p:nvPr/>
        </p:nvPicPr>
        <p:blipFill>
          <a:blip r:embed="rId1"/>
          <a:stretch/>
        </p:blipFill>
        <p:spPr>
          <a:xfrm>
            <a:off x="7308720" y="4869000"/>
            <a:ext cx="14097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roughout the course, you will also examine media issues, theories and deba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332000" y="4149720"/>
            <a:ext cx="1295280" cy="1008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nstantia"/>
              </a:rPr>
              <a:t>Media Issues and Deb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56360" y="4149720"/>
            <a:ext cx="1295280" cy="1008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nstantia"/>
              </a:rPr>
              <a:t>Media The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3132000" y="3357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Reality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2268360" y="544500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News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179280" y="378936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Moral Pa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324000" y="544500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Post 9/11 and the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3203640" y="44370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Ownership an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971640" y="292428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Regulation and ce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7524720" y="33577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semio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4859280" y="335772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Structuralism + post structur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948360" y="573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Postmoder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7812000" y="443700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Gender and Ethn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4716360" y="49417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Marx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6"/>
          <p:cNvSpPr/>
          <p:nvPr/>
        </p:nvSpPr>
        <p:spPr>
          <a:xfrm>
            <a:off x="4572000" y="5950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Post-coloni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8"/>
          <p:cNvSpPr/>
          <p:nvPr/>
        </p:nvSpPr>
        <p:spPr>
          <a:xfrm flipH="1" flipV="1">
            <a:off x="1834920" y="3789360"/>
            <a:ext cx="36360" cy="433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20"/>
          <p:cNvSpPr/>
          <p:nvPr/>
        </p:nvSpPr>
        <p:spPr>
          <a:xfrm flipH="1">
            <a:off x="1186920" y="5157720"/>
            <a:ext cx="36036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22"/>
          <p:cNvSpPr/>
          <p:nvPr/>
        </p:nvSpPr>
        <p:spPr>
          <a:xfrm flipH="1" flipV="1">
            <a:off x="900000" y="4149720"/>
            <a:ext cx="432000" cy="216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4"/>
          <p:cNvSpPr/>
          <p:nvPr/>
        </p:nvSpPr>
        <p:spPr>
          <a:xfrm flipV="1">
            <a:off x="2627280" y="3789360"/>
            <a:ext cx="720720" cy="503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26"/>
          <p:cNvSpPr/>
          <p:nvPr/>
        </p:nvSpPr>
        <p:spPr>
          <a:xfrm>
            <a:off x="2411280" y="5157720"/>
            <a:ext cx="216000" cy="358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28"/>
          <p:cNvSpPr/>
          <p:nvPr/>
        </p:nvSpPr>
        <p:spPr>
          <a:xfrm flipV="1">
            <a:off x="2627280" y="4760640"/>
            <a:ext cx="576360" cy="36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30"/>
          <p:cNvSpPr/>
          <p:nvPr/>
        </p:nvSpPr>
        <p:spPr>
          <a:xfrm flipH="1" flipV="1">
            <a:off x="5724360" y="4005360"/>
            <a:ext cx="43200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32"/>
          <p:cNvSpPr/>
          <p:nvPr/>
        </p:nvSpPr>
        <p:spPr>
          <a:xfrm flipH="1">
            <a:off x="5796000" y="5157720"/>
            <a:ext cx="504720" cy="719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34"/>
          <p:cNvSpPr/>
          <p:nvPr/>
        </p:nvSpPr>
        <p:spPr>
          <a:xfrm flipV="1">
            <a:off x="7451640" y="3716280"/>
            <a:ext cx="576360" cy="504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36"/>
          <p:cNvSpPr/>
          <p:nvPr/>
        </p:nvSpPr>
        <p:spPr>
          <a:xfrm>
            <a:off x="7164360" y="5157720"/>
            <a:ext cx="503280" cy="574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38"/>
          <p:cNvSpPr/>
          <p:nvPr/>
        </p:nvSpPr>
        <p:spPr>
          <a:xfrm flipV="1">
            <a:off x="7451640" y="4581000"/>
            <a:ext cx="433440" cy="71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40"/>
          <p:cNvSpPr/>
          <p:nvPr/>
        </p:nvSpPr>
        <p:spPr>
          <a:xfrm flipH="1">
            <a:off x="5435640" y="4653000"/>
            <a:ext cx="720720" cy="288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09:52:42Z</dcterms:created>
  <dc:creator>Grainne</dc:creator>
  <dc:description/>
  <dc:language>en-US</dc:language>
  <cp:lastModifiedBy>Grainne</cp:lastModifiedBy>
  <dcterms:modified xsi:type="dcterms:W3CDTF">2010-08-31T10:53:47Z</dcterms:modified>
  <cp:revision>32</cp:revision>
  <dc:subject/>
  <dc:title>A Level Media Studies</dc:title>
</cp:coreProperties>
</file>